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EDC-CF4C-40E8-90CD-9722B9FB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346-6B28-41B4-BD58-E774C14C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B7A7-3532-4384-B360-940AC04C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01D8-4C69-433F-9A2E-9824825E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9BC9-E452-4075-A5AB-774C3FBC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BBA4-C5A8-4440-A09A-E0817227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BBDB-E124-43F3-B793-0324DB01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240C-7DAB-4EA3-B24B-13704994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1FAB-3535-4B25-AB7E-1C5C33BD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95D-2D6F-47C8-8BCF-F0A0759F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E137-489B-4FE8-9D81-0F2F56BD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D7C-04AE-4D7A-AFA9-6C3CFF49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F5EF-E5C7-4EC3-8E00-519F333D2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father of 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 was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 had white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oved 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9880" y="4675320"/>
            <a:ext cx="3276720" cy="2182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62840" y="3736800"/>
            <a:ext cx="2081160" cy="3121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4120" y="3733920"/>
            <a:ext cx="1726920" cy="923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981080" y="4114800"/>
            <a:ext cx="1822680" cy="2743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397560" y="2209680"/>
            <a:ext cx="27464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6:34:51Z</dcterms:created>
  <dc:creator>smuser</dc:creator>
  <dc:description/>
  <dc:language>en-US</dc:language>
  <cp:lastModifiedBy>smuser</cp:lastModifiedBy>
  <dcterms:modified xsi:type="dcterms:W3CDTF">2010-02-04T18:50:13Z</dcterms:modified>
  <cp:revision>3</cp:revision>
  <dc:subject/>
  <dc:title>Comparing Presidents</dc:title>
</cp:coreProperties>
</file>